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086-5DE6-4EA2-B231-A61732FE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F87-C084-4260-952F-3607FD57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6C0-933B-4FE5-AC05-3C28FA04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391-EF7B-4138-99ED-D1969830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171A-A872-4AE3-97ED-4E3BADA4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313-B7AC-4285-B86D-A761977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D989-5877-46FF-B49B-0376CB2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A77F-E3FF-48D0-9494-421CA8D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C28-AE5A-43EE-8629-8971CC4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0E7-65C9-4756-B7AF-4D2C268B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046A-BAC0-4B88-BFF1-5085197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433-2D63-4534-B213-4F08411B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BB94-1773-47FB-B7B2-1678B6C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1A1-832B-419C-985F-9BB09A4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70C2-F24E-4E14-BC32-47353DE0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F89E-9654-4BC8-AB0B-C4CD2FE5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4FE-CE3C-4EA7-BA23-6E925E44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5AE-3870-4A9E-A1DB-D64F84A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34A-C982-4424-8B08-9D873E25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A46-5EE6-450F-BDA3-9123013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107-2F8B-4C32-B120-9F269E8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B9A-BB28-4DBD-9301-26F2A7E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580-105C-45EE-95AB-AFC65AF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F56-8446-49BA-A557-D68674B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D0E5-2683-466B-BBC4-753B4DA135CA}" type="slidenum">
              <a:rPr b="0" lang="sr-Latn-C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BA8-50D7-476E-B6A1-4E2C481472B0}" type="slidenum">
              <a:rPr b="0" lang="sr-Latn-C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ине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епену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ог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штећењ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летно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ид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роводљивост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ул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њо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цијал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роводљивост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ул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з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их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роводљивост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у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з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у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чува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творен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нете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треним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ужјем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нете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ладним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ужјем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снову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рфолошких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арактеристи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арн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кундарн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з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ич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оциј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зг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верзибилн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у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кални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штећењи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т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ђе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адур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м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бдур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м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ад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вод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бдур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аре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церациј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аниц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цер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рд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а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н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кундарн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з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хемичн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рагичн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кроз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медуларни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ми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мијелиј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рвних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елеменат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анал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азн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и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ок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летн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цијалн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уде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вин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пецифичн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индро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њ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арн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њ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е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терије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омедуларни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own – Sequard -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а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узиј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гле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келов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фикац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битк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т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итив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ут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ибилите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то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ли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во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зиј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емитети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ут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им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ктич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ча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емитети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в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цијен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рмал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авља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та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ј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орава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лачење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ад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т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итив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емећа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финкте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тив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ограф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граф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јутеризова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мограф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нет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онанц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сновн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рапијск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нцип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хоспитални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а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хоспитални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ак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каментозно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чењ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сталост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а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4 %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упног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оја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нципи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рапијских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ступак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ин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4" descr="Slika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541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мпресивна обољења</a:t>
            </a:r>
            <a:r>
              <a:rPr b="1" lang="sr-Latn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 стуба и</a:t>
            </a:r>
            <a:br>
              <a:rPr sz="4800"/>
            </a:br>
            <a:r>
              <a:rPr b="1" lang="sr-Latn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е мождин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индром радикуларне компресиј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ђног болног синдро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 кичм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рн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олисте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стеоартритис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олошка обољењ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еуматоид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трити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колозирајућ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итис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мо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актеријск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БЦ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болички поремећај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у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ломи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ђног болног синдро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бољења бубрега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алкулоз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е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бољења дигестивног тракта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лку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чн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ес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нкреаса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Тумори оварију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Анеуризма аорт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а дискус херн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– 90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шћ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ац хернијациј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њ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рзолатерал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рзомедиј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 хернијациј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труз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уз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квестрац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 слика лумбалн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скус херн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ђн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ци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итивн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ов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езањ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куларни бо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радир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рмат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ће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ен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ичн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митента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ражениј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ђ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оршав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к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ст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ањуј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јање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жање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оцир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реза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ја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ша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ог радикуларног бол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сеудорадикуларни бо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ц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офасцијалн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кроилијачно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гло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к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јача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ор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ање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овањ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колен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м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јача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заревићево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за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тљивост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В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суств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ог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цит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зузев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естезија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ог радикуларног бол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 услед преоптерећења мишића потколениц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азив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жбањ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стај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овањ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ка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ј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н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ој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тљиво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ентуа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шић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аскуларне клаудикациј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јав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ксно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тојањ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рочит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њањ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вљ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д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ч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зањ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тколениц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ја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з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вод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стан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ог радикуларног бол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 код спиналне стенозе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неурогена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ли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сеудоклаудикација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изован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ње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ђ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утарњ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оченос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узн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гам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ека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д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њењ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екад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ружен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м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тера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гам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лач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овањ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континенциј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узрокова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ањ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јача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јањ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ање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дењ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жањ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вијањ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5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0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јачање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ензиј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раничен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и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штећењем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његових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томских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речних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авак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бинова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л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а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алих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стови истезањ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итивн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олик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оцирај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з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заревићев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eque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“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етив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у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дећ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енск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ралатерал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eque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ов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jersztaj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нут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изањ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ужен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г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Нативне радиографиј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вертебралн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стор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изова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офит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олистез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оз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равље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мб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рдоз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р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улац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28"/>
          <p:cNvSpPr/>
          <p:nvPr/>
        </p:nvSpPr>
        <p:spPr>
          <a:xfrm>
            <a:off x="0" y="5943600"/>
            <a:ext cx="9296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ативне радиографије</a:t>
            </a:r>
            <a:br>
              <a:rPr sz="2800"/>
            </a:b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Лево: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сужењ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IV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стор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L5 / S1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есно: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ртроз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ниво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 L5 / S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1029" descr="misko1"/>
          <p:cNvPicPr/>
          <p:nvPr/>
        </p:nvPicPr>
        <p:blipFill>
          <a:blip r:embed="rId1"/>
          <a:stretch/>
        </p:blipFill>
        <p:spPr>
          <a:xfrm>
            <a:off x="642960" y="0"/>
            <a:ext cx="3790800" cy="5500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30" descr="misko2"/>
          <p:cNvPicPr/>
          <p:nvPr/>
        </p:nvPicPr>
        <p:blipFill>
          <a:blip r:embed="rId2"/>
          <a:stretch/>
        </p:blipFill>
        <p:spPr>
          <a:xfrm>
            <a:off x="4429080" y="0"/>
            <a:ext cx="4000680" cy="55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ијелограф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литерациј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енск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паг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илатералн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раст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д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шча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и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раст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2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Лумбална радикулографија</a:t>
            </a:r>
            <a:br>
              <a:rPr sz="2800"/>
            </a:b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Лев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облите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коренс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шпа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есн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унилатерал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уже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контраст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ту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1029" descr="misko3"/>
          <p:cNvPicPr/>
          <p:nvPr/>
        </p:nvPicPr>
        <p:blipFill>
          <a:blip r:embed="rId1"/>
          <a:stretch/>
        </p:blipFill>
        <p:spPr>
          <a:xfrm>
            <a:off x="0" y="0"/>
            <a:ext cx="4071960" cy="5715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30" descr="misko4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57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28" descr="misko5"/>
          <p:cNvPicPr/>
          <p:nvPr/>
        </p:nvPicPr>
        <p:blipFill>
          <a:blip r:embed="rId1"/>
          <a:stretch/>
        </p:blipFill>
        <p:spPr>
          <a:xfrm>
            <a:off x="0" y="0"/>
            <a:ext cx="5000760" cy="5572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29" descr="misko6"/>
          <p:cNvPicPr/>
          <p:nvPr/>
        </p:nvPicPr>
        <p:blipFill>
          <a:blip r:embed="rId2"/>
          <a:stretch/>
        </p:blipFill>
        <p:spPr>
          <a:xfrm>
            <a:off x="5000760" y="0"/>
            <a:ext cx="4143240" cy="5572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30"/>
          <p:cNvSpPr/>
          <p:nvPr/>
        </p:nvSpPr>
        <p:spPr>
          <a:xfrm>
            <a:off x="0" y="55008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а радикулографија</a:t>
            </a:r>
            <a:br>
              <a:rPr sz="2400"/>
            </a:b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в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растно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д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шчано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т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во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/ L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н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летан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ид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растно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во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 / S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омпјутеризована томограгија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C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Т</a:t>
            </a:r>
            <a:r>
              <a:rPr b="1" lang="sr-Latn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ан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суств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идуралн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т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ера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ралн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ћ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иказива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х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пагов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8"/>
          <p:cNvSpPr/>
          <p:nvPr/>
        </p:nvSpPr>
        <p:spPr>
          <a:xfrm>
            <a:off x="0" y="5867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Компјутеризована томографија</a:t>
            </a:r>
            <a:br>
              <a:rPr sz="2800"/>
            </a:b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орзомедиј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лап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4 / L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1029" descr="misko7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0" y="5486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Компјутеризована томографиј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орзолатер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лап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5 / S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5" descr="misko8"/>
          <p:cNvPicPr/>
          <p:nvPr/>
        </p:nvPicPr>
        <p:blipFill>
          <a:blip r:embed="rId1"/>
          <a:stretch/>
        </p:blipFill>
        <p:spPr>
          <a:xfrm>
            <a:off x="1071720" y="0"/>
            <a:ext cx="7010280" cy="573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агнетна резонанц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RI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а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дентифик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иса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зуализ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е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ралном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гмент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ива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зуализ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тав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б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ђе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– C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 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 – L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0" y="578628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           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Arial"/>
              </a:rPr>
              <a:t>Нуклеарна магнетна резонанца</a:t>
            </a:r>
            <a:br>
              <a:rPr sz="3600"/>
            </a:b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                     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Лев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лап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4 / L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есно: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лап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5 / S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5" descr="misko9"/>
          <p:cNvPicPr/>
          <p:nvPr/>
        </p:nvPicPr>
        <p:blipFill>
          <a:blip r:embed="rId1"/>
          <a:stretch/>
        </p:blipFill>
        <p:spPr>
          <a:xfrm>
            <a:off x="0" y="0"/>
            <a:ext cx="4735440" cy="5572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misko11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5867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             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Arial"/>
              </a:rPr>
              <a:t>Нуклеарна магнетна резонанца</a:t>
            </a:r>
            <a:br>
              <a:rPr sz="2800"/>
            </a:br>
            <a:r>
              <a:rPr b="1" lang="sr-CS" sz="2800" spc="-1" strike="noStrike">
                <a:solidFill>
                  <a:srgbClr val="66ff33"/>
                </a:solidFill>
                <a:latin typeface="Times New Roman"/>
                <a:ea typeface="Arial"/>
              </a:rPr>
              <a:t>                      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Лев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: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еквест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5 / S1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ес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: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труз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ди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L2 / L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5" descr="misko10"/>
          <p:cNvPicPr/>
          <p:nvPr/>
        </p:nvPicPr>
        <p:blipFill>
          <a:blip r:embed="rId1"/>
          <a:stretch/>
        </p:blipFill>
        <p:spPr>
          <a:xfrm>
            <a:off x="0" y="0"/>
            <a:ext cx="4390920" cy="5286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misko12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нзервативна терап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спешна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90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% </a:t>
            </a:r>
            <a:r>
              <a:rPr b="1" lang="sr-CS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лучајева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г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ова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еље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гетиц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тероид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уматиц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идур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лик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оид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ш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зет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зн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лвичк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кц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нипулациј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к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дикације з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о лечењ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псолутн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узиј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уд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а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орн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же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лативн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авља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ијалгич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зод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етоде хируршког лечењ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рансканаликуларни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сту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ектомиј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ек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иламинек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лавек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дискектом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лавек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амино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етоде хируршког лечењ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дискал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туп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ндикова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утоматизова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кута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мб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ек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кута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скопск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ектом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серск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компрес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нуклеолиз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сход хируршког лечењ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лобађа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5 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лобађа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ђн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а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задовољавајућ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тат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iled back surgery syndrome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”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тач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адекват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екц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цијен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адекват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рурш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компрес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епознат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ралн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цесус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кундар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табилно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хноид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а спинална сте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Етиологиј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диопатс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лоп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хондроплазиј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чен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тив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цес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јатроге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трауматс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ипов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ал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рал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окализ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мбална спинална сте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ик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ге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удикац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 C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I 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ралн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цесус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д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гиталн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метр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д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2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солут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зервати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рурш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ектом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иј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сетектом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оракална дискус херн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циденц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0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5 %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ив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к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на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у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и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ђ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ци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јасни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0 до 50 % повреда са плегијом екстремитета настају у саобраћајним удесим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5712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оракална дискус херн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T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граф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C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о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ечењ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приступи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минектомиј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е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ч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едикулар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костотрансверзектомиј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ње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ч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рансторакални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а дискус херн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окализац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атолог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рд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стеофит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ално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нковертебралном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ону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к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олап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уклеус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позус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а спондилоза</a:t>
            </a:r>
            <a:r>
              <a:rPr b="1" lang="en-US" sz="4400" spc="-1" strike="noStrike">
                <a:solidFill>
                  <a:srgbClr val="ccecff"/>
                </a:solidFill>
                <a:latin typeface="Times New Roman YU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окализациј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атолог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тивн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мен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ервертебрал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глобов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 слика код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е спондилоз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ојачав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ензији )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скапуларн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ци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пат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и радикуларни бо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овоцирањ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урлингов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мањењ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сијал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нуел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кциј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– 15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г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изањ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к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на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в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 знаци код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е дискус херн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кулар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sr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</a:t>
            </a:r>
            <a:r>
              <a:rPr b="1" lang="sr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ижен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инатор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рнулост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лц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екад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лексије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к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 знаци код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е дискус херниј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куларн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ижен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ицепс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рнулос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I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V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с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ензор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к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 знаци код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е дискус херниј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кулар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/</a:t>
            </a:r>
            <a:r>
              <a:rPr b="1" lang="sr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(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трнулост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V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с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ак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 знаци код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ервикалне дискус херниј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ијелопат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олуц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ицијалн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тич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парез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а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ицио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брацио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ибилите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итиван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hermitte -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пинални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умор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жа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грес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торни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ици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ње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ражен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уб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орен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ворен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умори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лексус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рахијалис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индром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атералн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пертуре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оракс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естезиј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мај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рибуциј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ат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х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азивај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азив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тиск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ксу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индром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арпалног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убиталног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ан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ов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рибуциј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ферно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тко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м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азив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х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кусиј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ј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тивне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ографиј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вертебралн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ор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фит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жењ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метр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м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блукс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ов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,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м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ц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офизеал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глобов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убитак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рдоз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Р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ан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рниј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ог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кова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фи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малациј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97560" y="3662280"/>
            <a:ext cx="6890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5" descr="C:\Documents and Settings\dana\My Documents\Kicmadegenerat\VojinovicSmiljaMRIT2preop.jpg"/>
          <p:cNvPicPr/>
          <p:nvPr/>
        </p:nvPicPr>
        <p:blipFill>
          <a:blip r:embed="rId1"/>
          <a:stretch/>
        </p:blipFill>
        <p:spPr>
          <a:xfrm>
            <a:off x="4429080" y="2500200"/>
            <a:ext cx="471492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нзервативна терап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лањ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5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опатиј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ољшањ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патиј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50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ровањ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шењ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врстог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оврат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митент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кциј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– 3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невно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 – 15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ут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мотерапиј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аж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лгетиц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тероидн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реуматиц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орелаксан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идурал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ме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естетик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ро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дикације за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о лечењ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жак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ј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гуј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у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л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3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ељ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оз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торни дефици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мерена прогресивна ил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шка мијелопат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и приступ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дњ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централн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фи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тералн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еофит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зиј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штани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фт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owrd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i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binson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зиј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лакосом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ate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зиј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и приступ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дњ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терал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ш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во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латералном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опатијом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еноз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ла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ектом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раниче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ектомиј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фораминотомиј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опластик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д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умори кичм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традурални тумори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80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%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амедуларн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отач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урофибром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ваном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ингео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зофит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ендимом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цито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рко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meningkickalcifKosuticNevenkaMRIT1konsag"/>
          <p:cNvPicPr/>
          <p:nvPr/>
        </p:nvPicPr>
        <p:blipFill>
          <a:blip r:embed="rId1"/>
          <a:stretch/>
        </p:blipFill>
        <p:spPr>
          <a:xfrm>
            <a:off x="785880" y="0"/>
            <a:ext cx="36907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eningkickalcifKosuticNevenkaMRIT2sag"/>
          <p:cNvPicPr/>
          <p:nvPr/>
        </p:nvPicPr>
        <p:blipFill>
          <a:blip r:embed="rId2"/>
          <a:stretch/>
        </p:blipFill>
        <p:spPr>
          <a:xfrm>
            <a:off x="4429080" y="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Торакал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интрадурал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екстрамедулар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менингео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творен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и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ов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ад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ов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им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ади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ње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о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умори кичм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традурални тумори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80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%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медуларн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ендимо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троцито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тал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нгениталн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пом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ependimkicpreop"/>
          <p:cNvPicPr/>
          <p:nvPr/>
        </p:nvPicPr>
        <p:blipFill>
          <a:blip r:embed="rId1"/>
          <a:stretch/>
        </p:blipFill>
        <p:spPr>
          <a:xfrm>
            <a:off x="0" y="0"/>
            <a:ext cx="4643280" cy="568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AsIIIkicm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Интрадурал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интамедулар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епендимом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лево</a:t>
            </a:r>
            <a:br>
              <a:rPr sz="2800"/>
            </a:b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Астроцитом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десно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умори кичм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Екстрадурални тумори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0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%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вег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0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%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нигних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имарни</a:t>
            </a:r>
            <a:r>
              <a:rPr b="1" lang="en-U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штан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ингеом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фибром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и 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екундарни</a:t>
            </a:r>
            <a:r>
              <a:rPr b="1" lang="en-U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уробластом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астаза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PaunovicZlataekstraduralnitumorMRIT1konsag"/>
          <p:cNvPicPr/>
          <p:nvPr/>
        </p:nvPicPr>
        <p:blipFill>
          <a:blip r:embed="rId1"/>
          <a:stretch/>
        </p:blipFill>
        <p:spPr>
          <a:xfrm>
            <a:off x="0" y="0"/>
            <a:ext cx="4429080" cy="6143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PaunovicZlataekstraduralnitumorMRIT1konsag1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14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215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Екстрадурал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тумор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 примарн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66ff33"/>
                </a:solidFill>
                <a:latin typeface="Times New Roman"/>
              </a:rPr>
              <a:t>лимфом 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окални нала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нормалан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ај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в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емеће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иви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раниче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рет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чм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етљивост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оз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ава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емећај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неарног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поред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лних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ава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игмат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ермални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у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перпигментација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6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ол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кал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алн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мпресиј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е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hermitte -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 </a:t>
            </a:r>
            <a:r>
              <a:rPr b="1" lang="sr-CS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ролошки дефици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гментн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куларни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ec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дуларн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уги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еви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компресивне лезиј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рвикал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ндилотичн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јелопатиј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генеративн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С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туморске компресивне лезиј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ус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рниј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рингомијелиј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хноидалн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ст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оген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C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сцес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а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ц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буминоцитолошка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оцијац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kenstedt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ов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уб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натомским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штећењ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гаменат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орз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птуре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глобних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елов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шљенов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сац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блуксациј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апс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вертебралног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к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е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л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ичменог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шљена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иду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укоти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ломи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шљенских</a:t>
            </a:r>
            <a:r>
              <a:rPr b="1" lang="sr-Latn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л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ресив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инутив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речн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тивне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ографиј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руже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шта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малиј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фид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ивертебр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формитет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з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ба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тибаз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залн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рес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тивне</a:t>
            </a:r>
            <a:r>
              <a:rPr b="1" lang="en-US" sz="35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35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ографије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штан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ормитет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ован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мори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трукциј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ст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тастаз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имфосарком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ширен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вертебрални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ор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урофибром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ањен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дикулу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ширењ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педунукуларн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танц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&gt; 3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м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ање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убље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ши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шљенског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ијагнос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елографиј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ec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елографија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I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з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долинију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огућав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ковање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ем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рап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ируршк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туп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ламинектомиј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опластик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чн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ступ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костотрансверзектомиј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диотерапиј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цијалн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страњен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астаз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м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циноматоз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инг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емиотерапија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ст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јев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рачењ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висност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 тип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мора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лом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елов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шљенов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мин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ноз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тикулар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верзал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авак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лом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уксацијам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овредам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тервертебралних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глобов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мбинован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елом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ела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ркус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слокације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7T06:40:29Z</dcterms:created>
  <dc:creator>User_Name</dc:creator>
  <dc:description/>
  <dc:language>en-US</dc:language>
  <cp:lastModifiedBy>KCKG</cp:lastModifiedBy>
  <dcterms:modified xsi:type="dcterms:W3CDTF">2014-11-11T07:43:42Z</dcterms:modified>
  <cp:revision>99</cp:revision>
  <dc:subject/>
  <dc:title>Slide 1</dc:title>
</cp:coreProperties>
</file>